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BD05-5E4D-457A-AF7D-B5B2322A2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учителя информатики МОУ Адышевской СОШ Оричевского р-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32C7-F30A-4158-A0E4-20C21A579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1FE-1338-409C-B28F-D17A08BB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681-9D71-4A7B-BE32-836C047B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1DF-3145-4144-A7D5-9845CE80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4FA-52B3-4A1B-94FB-F0880E50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0B7-0036-4684-82CB-647EC16D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A35-CECE-4B86-AFC4-C5D85FEF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38B-63E7-44A4-8003-91514416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711-3828-46EA-8AE7-DECD5F0B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715-30A3-42EA-80E3-0E531F78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89E5-CAD5-46B7-AA4C-E745B74F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E31-05A9-4EBC-AB67-9F194322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226-74DB-42C6-AE7A-0E62D800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77DD-A142-4131-BBD8-BBFCA0954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Program%20Files/Microsoft%20Visual%20Studio/VB98/VB6.EXE" TargetMode="External"/><Relationship Id="rId3" Type="http://schemas.openxmlformats.org/officeDocument/2006/relationships/hyperlink" Target="file:///../Program%20Files/Microsoft%20Visual%20Studio/VB98/VB6.EX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VB6/&#1057;&#1074;-&#1074;&#1072;%20&#1092;&#1086;&#1088;&#1084;&#1099;.doc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file:///VB6/&#1052;&#1077;&#1090;&#1086;&#1076;&#1099;%20&#1060;&#1086;&#1088;&#1084;&#1099;.doc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VB6/&#1057;&#1074;-&#1074;&#1072;%20&#1092;&#1086;&#1088;&#1084;&#1099;.doc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Lessons/CH15%20&#1085;/&#1052;&#1072;&#1089;&#1089;&#1080;&#1074;2.vbp" TargetMode="External"/><Relationship Id="rId3" Type="http://schemas.openxmlformats.org/officeDocument/2006/relationships/hyperlink" Target="file:///Vb%20&#1087;&#1088;&#1080;&#1084;&#1077;&#1088;&#1099;/prjVB1/prjVB1.VBP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VB6/&#1055;&#1088;&#1077;&#1092;&#1080;&#1082;&#1089;&#1099;%20&#1090;&#1080;&#1087;&#1086;&#1074;%20&#1076;&#1072;&#1085;&#1085;&#1099;&#1093;%20&#1074;%20&#1080;&#1084;&#1077;&#1085;&#1080;%20&#1087;&#1077;&#1088;&#1077;&#1084;&#1085;&#1085;&#1099;&#1093;.doc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VB6/&#1058;&#1080;&#1087;&#1099;%20&#1076;&#1072;&#1085;&#1085;&#1099;&#1093;.doc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Program%20Files/Microsoft%20Visual%20Studio/VB98/VB6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VB6/&#1053;&#1077;&#1082;&#1086;&#1090;&#1086;&#1088;&#1099;&#1077;%20&#1072;&#1088;&#1080;&#1092;&#1084;&#1077;&#1090;&#1080;&#1095;&#1077;&#1089;&#1082;&#1080;&#1077;%20&#1086;&#1087;&#1077;&#1088;&#1072;&#1094;&#1080;&#1080;.doc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hyperlink" Target="file:///Lessons/CH03/&#1087;&#1077;&#1088;&#1077;&#1084;&#1077;&#1085;&#1085;&#1099;&#1077;%20&#1095;&#1080;&#1089;&#1083;&#1086;&#1074;&#1086;&#1075;&#1086;%20&#1090;&#1080;&#1087;&#1072;.vbp" TargetMode="External"/><Relationship Id="rId5" Type="http://schemas.openxmlformats.org/officeDocument/2006/relationships/hyperlink" Target="file:///Lessons/CH03/&#1087;&#1077;&#1088;&#1077;&#1084;&#1077;&#1085;&#1085;&#1099;&#1077;%20&#1057;&#1090;&#1088;&#1086;&#1082;&#1086;&#1074;&#1086;&#1075;&#1086;%20&#1090;&#1080;&#1087;&#1072;.vbp" TargetMode="Externa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VB6/&#1054;&#1089;&#1085;&#1086;&#1074;&#1085;&#1099;&#1077;%20&#1084;&#1072;&#1090;%20&#1092;-&#1094;&#1080;&#1080;.doc" TargetMode="External"/><Relationship Id="rId2" Type="http://schemas.openxmlformats.org/officeDocument/2006/relationships/image" Target="../media/image16.jpeg"/><Relationship Id="rId3" Type="http://schemas.openxmlformats.org/officeDocument/2006/relationships/hyperlink" Target="file:///Lessons/Ch17/Project1.vbp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Lessons/CH15%20&#1085;/&#1052;&#1072;&#1089;&#1089;&#1080;&#1074;2.vbp" TargetMode="External"/><Relationship Id="rId3" Type="http://schemas.openxmlformats.org/officeDocument/2006/relationships/hyperlink" Target="file:///Lessons/CH03/&#1057;&#1090;&#1088;&#1086;&#1082;%20&#1092;_&#1080;&#1080;.vbp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VB6/&#1042;&#1080;&#1076;%20&#1087;&#1072;&#1085;&#1077;&#1083;&#1080;%20&#1057;&#1086;&#1086;&#1073;&#1097;&#1077;&#1085;&#1080;&#1103;.doc" TargetMode="External"/><Relationship Id="rId2" Type="http://schemas.openxmlformats.org/officeDocument/2006/relationships/hyperlink" Target="file:///VB6/&#1050;&#1086;&#1085;&#1089;&#1090;&#1072;&#1085;&#1090;&#1099;%20&#1076;&#1080;&#1072;&#1083;&#1086;&#1075;&#1086;&#1074;&#1086;&#1075;&#1086;%20&#1086;&#1082;&#1085;&#1072;%20&#1089;&#1086;&#1086;&#1073;&#1097;&#1077;&#1085;&#1080;&#1103;.doc" TargetMode="External"/><Relationship Id="rId3" Type="http://schemas.openxmlformats.org/officeDocument/2006/relationships/image" Target="../media/image14.jpeg"/><Relationship Id="rId4" Type="http://schemas.openxmlformats.org/officeDocument/2006/relationships/hyperlink" Target="file:///Lessons/CH15%20&#1085;/&#1052;&#1072;&#1089;&#1089;&#1080;&#1074;2.vbp" TargetMode="External"/><Relationship Id="rId5" Type="http://schemas.openxmlformats.org/officeDocument/2006/relationships/hyperlink" Target="file:///Lessons/&#1054;&#1082;&#1085;&#1072;%20&#1042;&#1074;&#1086;&#1076;%20&#1042;&#1099;&#1074;&#1086;&#1076;&#1072;/&#1042;&#1074;&#1086;&#1076;%20&#1042;&#1099;&#1074;&#1086;&#1076;.vbp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Vb%20&#1087;&#1088;&#1080;&#1084;&#1077;&#1088;&#1099;/prjVB5/prjVB5.vbp" TargetMode="External"/><Relationship Id="rId3" Type="http://schemas.openxmlformats.org/officeDocument/2006/relationships/image" Target="../media/image17.jpeg"/><Relationship Id="rId4" Type="http://schemas.openxmlformats.org/officeDocument/2006/relationships/hyperlink" Target="file:///Vb%20&#1087;&#1088;&#1080;&#1084;&#1077;&#1088;&#1099;/prjVB4/prjVB4.vbp" TargetMode="External"/><Relationship Id="rId5" Type="http://schemas.openxmlformats.org/officeDocument/2006/relationships/image" Target="../media/image17.jpeg"/><Relationship Id="rId6" Type="http://schemas.openxmlformats.org/officeDocument/2006/relationships/hyperlink" Target="file:///Vb%20&#1087;&#1088;&#1080;&#1084;&#1077;&#1088;&#1099;/prjVB3/prjVB3.vbp" TargetMode="External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Lessons/CH15%20&#1085;/&#1052;&#1072;&#1089;&#1089;&#1080;&#1074;2.vbp" TargetMode="External"/><Relationship Id="rId3" Type="http://schemas.openxmlformats.org/officeDocument/2006/relationships/hyperlink" Target="file:///Lessons/&#1054;&#1082;&#1085;&#1072;%20&#1042;&#1074;&#1086;&#1076;%20&#1042;&#1099;&#1074;&#1086;&#1076;&#1072;/&#1057;&#1091;&#1084;&#1084;&#1080;&#1088;&#1086;&#1074;&#1072;&#1085;&#1080;&#1077;.vbp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Lessons/CH15%20&#1085;/&#1052;&#1072;&#1089;&#1089;&#1080;&#1074;2.vbp" TargetMode="External"/><Relationship Id="rId3" Type="http://schemas.openxmlformats.org/officeDocument/2006/relationships/hyperlink" Target="file:///Lessons/&#1054;&#1082;&#1085;&#1072;%20&#1042;&#1074;&#1086;&#1076;%20&#1042;&#1099;&#1074;&#1086;&#1076;&#1072;/&#1057;&#1091;&#1084;&#1084;&#1080;&#1088;&#1086;&#1074;&#1072;&#1085;&#1080;&#1077;.vbp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Vb%20&#1087;&#1088;&#1080;&#1084;&#1077;&#1088;&#1099;/prjVB9/prjVB9.vbp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Lessons/CH03/TIMER.VBP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Lessons/CH03/TIMER.VBP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Lessons/CH15%20&#1085;/&#1052;&#1072;&#1089;&#1089;&#1080;&#1074;.vbp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:\&#1057;&#1077;&#1090;&#1077;&#1074;&#1086;&#1081; &#1076;&#1080;&#1089;&#1082;\&#1048;&#1085;&#1092;&#1086;&#1088;&#1084;&#1072;&#1090;&#1080;&#1082;&#1072;\9\VB6\&#1084;&#1072;&#1089;&#1089;&#1080;&#1074;2.exe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&#1087;&#1086;&#1082;&#1072;.vbp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&#1087;&#1086;&#1082;&#1072;.vbp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&#1052;&#1072;&#1089;&#1089;&#1080;&#1074;&#1099;/&#1052;&#1072;&#1089;&#1089;&#1080;&#1074;&#1099;.exe" TargetMode="External"/><Relationship Id="rId2" Type="http://schemas.openxmlformats.org/officeDocument/2006/relationships/hyperlink" Target="file:///&#1052;&#1072;&#1089;&#1089;&#1080;&#1074;&#1099;/&#1052;&#1072;&#1089;&#1089;&#1080;&#1074;%20&#1089;&#1080;&#1084;&#1074;&#1086;&#1083;&#1085;&#1099;&#1081;.exe" TargetMode="External"/><Relationship Id="rId3" Type="http://schemas.openxmlformats.org/officeDocument/2006/relationships/hyperlink" Target="file:///&#1055;&#1088;&#1080;&#1084;&#1077;&#1088;&#1099;/&#1052;&#1072;&#1089;&#1089;&#1080;&#1074;.vbp" TargetMode="External"/><Relationship Id="rId4" Type="http://schemas.openxmlformats.org/officeDocument/2006/relationships/hyperlink" Target="file:///&#1055;&#1088;&#1080;&#1084;&#1077;&#1088;&#1099;/&#1052;&#1072;&#1089;&#1089;&#1080;&#1074;%20&#1089;&#1080;&#1084;&#1074;&#1086;&#1083;&#1085;&#1099;&#1081;.vbp" TargetMode="Externa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Lessons/CH01/&#1055;&#1088;&#1086;&#1073;&#1072;.vbp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но-ориентированное событийное программирование н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B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rcRect l="0" t="0" r="13622" b="29123"/>
          <a:stretch/>
        </p:blipFill>
        <p:spPr>
          <a:xfrm>
            <a:off x="395280" y="333360"/>
            <a:ext cx="842472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1908000" y="57340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кно редактора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B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араметры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rcRect l="7763" t="9834" r="14356" b="31097"/>
          <a:stretch/>
        </p:blipFill>
        <p:spPr>
          <a:xfrm>
            <a:off x="0" y="1197000"/>
            <a:ext cx="9144000" cy="520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>
            <a:lum contrast="12000"/>
          </a:blip>
          <a:srcRect l="73831" t="23242" r="-140" b="12763"/>
          <a:stretch/>
        </p:blipFill>
        <p:spPr>
          <a:xfrm>
            <a:off x="6119640" y="1125360"/>
            <a:ext cx="3024360" cy="5516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rcRect l="74189" t="22267" r="-402" b="12763"/>
          <a:stretch/>
        </p:blipFill>
        <p:spPr>
          <a:xfrm>
            <a:off x="395280" y="1125360"/>
            <a:ext cx="29844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7.40741E-007 C -0.00174 -0.01458 -0.00208 -0.02407 -0.00972 -0.03426 C -0.01233 -0.04467 -0.01511 -0.05 -0.02101 -0.0581 C -0.02274 -0.06782 -0.03108 -0.08078 -0.03715 -0.08819 C -0.04497 -0.09791 -0.05261 -0.10787 -0.06129 -0.11597 C -0.06597 -0.12037 -0.07274 -0.12222 -0.07743 -0.12685 C -0.07934 -0.1287 -0.08038 -0.13171 -0.08229 -0.13333 C -0.08577 -0.13588 -0.08993 -0.13541 -0.09358 -0.1375 C -0.10295 -0.14305 -0.10938 -0.15 -0.11945 -0.15254 C -0.14913 -0.17245 -0.10816 -0.14676 -0.14045 -0.16111 C -0.1434 -0.1625 -0.14549 -0.16643 -0.14844 -0.16759 C -0.15417 -0.1699 -0.16024 -0.1706 -0.16615 -0.17199 C -0.1717 -0.17338 -0.17674 -0.17708 -0.18229 -0.17847 C -0.2033 -0.18402 -0.22413 -0.18889 -0.24531 -0.19143 C -0.2908 -0.20833 -0.34202 -0.20555 -0.38872 -0.21273 C -0.41458 -0.21203 -0.44045 -0.21273 -0.46615 -0.21065 C -0.49809 -0.2081 -0.48247 -0.20578 -0.49844 -0.20208 C -0.5125 -0.19884 -0.52882 -0.19676 -0.54202 -0.18912 C -0.55972 -0.17893 -0.57622 -0.1662 -0.59358 -0.15486 C -0.59827 -0.14861 -0.60226 -0.14398 -0.6066 -0.1375 C -0.60955 -0.1331 -0.61615 -0.12477 -0.61615 -0.12477 C -0.61892 -0.11435 -0.62465 -0.10046 -0.63073 -0.09236 C -0.63472 -0.08703 -0.63629 -0.08588 -0.63872 -0.0794 C -0.64358 -0.06666 -0.64722 -0.05254 -0.6533 -0.04074 C -0.65556 -0.02592 -0.65486 -0.03379 -0.65486 -0.01713 E">
                                      <p:cBhvr>
                                        <p:cTn id="26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C 0.00677 -0.00926 0.01198 -0.01783 0.01927 -0.02593 C 0.02604 -0.03357 0.02292 -0.02778 0.03212 -0.03449 C 0.03455 -0.03634 0.03629 -0.03912 0.03872 -0.04097 C 0.04427 -0.04514 0.05243 -0.04653 0.05799 -0.04954 C 0.08681 -0.06528 0.1158 -0.06806 0.1467 -0.07315 C 0.16111 -0.07963 0.19184 -0.08195 0.19184 -0.08195 C 0.21146 -0.0919 0.2342 -0.0963 0.25486 -0.09908 C 0.27761 -0.11088 0.30157 -0.11389 0.3257 -0.1162 C 0.37917 -0.12986 0.43542 -0.1169 0.48872 -0.10556 C 0.50348 -0.09861 0.51858 -0.09445 0.53386 -0.09051 C 0.54288 -0.0882 0.54202 -0.0882 0.55157 -0.08403 C 0.55313 -0.08333 0.55643 -0.08195 0.55643 -0.08195 C 0.56181 -0.07708 0.56615 -0.07546 0.57257 -0.07315 C 0.58021 -0.06667 0.58993 -0.0632 0.59827 -0.0581 C 0.60261 -0.05533 0.60695 -0.05232 0.61129 -0.04954 C 0.61337 -0.04815 0.61771 -0.04537 0.61771 -0.04537 C 0.6224 -0.03912 0.62604 -0.03241 0.63056 -0.02593 E">
                                      <p:cBhvr>
                                        <p:cTn id="27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аметры кно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rcRect l="77884" t="30511" r="-402" b="10440"/>
          <a:stretch/>
        </p:blipFill>
        <p:spPr>
          <a:xfrm>
            <a:off x="2484360" y="1052640"/>
            <a:ext cx="41115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rcRect l="7390" t="10828" r="37240" b="32096"/>
          <a:stretch/>
        </p:blipFill>
        <p:spPr>
          <a:xfrm>
            <a:off x="1908000" y="1413000"/>
            <a:ext cx="5400720" cy="417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rcRect l="7390" t="10809" r="37259" b="32121"/>
          <a:stretch/>
        </p:blipFill>
        <p:spPr>
          <a:xfrm>
            <a:off x="2195640" y="1413000"/>
            <a:ext cx="5398920" cy="4174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2700360" y="5661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 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мените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араметры Формы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Colo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2"/>
          <a:srcRect l="8856" t="13782" r="32829" b="27194"/>
          <a:stretch/>
        </p:blipFill>
        <p:spPr>
          <a:xfrm>
            <a:off x="1979640" y="1700280"/>
            <a:ext cx="5688000" cy="4317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3"/>
          <a:srcRect l="8856" t="13782" r="32814" b="27194"/>
          <a:stretch/>
        </p:blipFill>
        <p:spPr>
          <a:xfrm>
            <a:off x="1979640" y="1700280"/>
            <a:ext cx="5689440" cy="4317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4"/>
          <a:srcRect l="8871" t="13782" r="32814" b="27194"/>
          <a:stretch/>
        </p:blipFill>
        <p:spPr>
          <a:xfrm>
            <a:off x="1979640" y="1700280"/>
            <a:ext cx="5688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11111E-006 C -0.0066 -0.01296 -0.01389 -0.01481 -0.02414 -0.01944 C -0.02987 -0.03055 -0.02431 -0.02315 -0.03542 -0.02801 C -0.05539 -0.0368 -0.07552 -0.03819 -0.09688 -0.04097 C -0.13646 -0.03912 -0.15487 -0.03981 -0.18872 -0.02361 C -0.19688 -0.01319 -0.2066 -0.00648 -0.21459 0.00417 C -0.20209 0.01019 -0.21146 0.00648 -0.18542 0.00648 E">
                                      <p:cBhvr>
                                        <p:cTn id="33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5.55556E-006 C -0.00972 -0.00323 -0.02587 -0.00578 -0.03385 -0.01064 C -0.03819 -0.01342 -0.0467 -0.01944 -0.0467 -0.01944 C -0.05035 -0.02638 -0.05955 -0.03865 -0.05955 -0.03865 C -0.06041 -0.04212 -0.06285 -0.05023 -0.06285 -0.0537 C -0.06285 -0.06296 -0.0625 -0.07245 -0.06128 -0.08171 C -0.06094 -0.08425 -0.05903 -0.08587 -0.05798 -0.08819 C -0.04705 -0.11111 -0.03385 -0.11342 -0.01441 -0.1162 C -0.00121 -0.11504 0.01302 -0.11527 0.02587 -0.10972 C 0.02917 -0.10694 0.03229 -0.10393 0.03559 -0.10115 C 0.03941 -0.09791 0.04514 -0.08819 0.04514 -0.08819 C 0.04722 -0.08009 0.04879 -0.07291 0.05 -0.06458 C 0.04931 -0.053 0.05122 -0.04004 0.04688 -0.03009 C 0.04549 -0.02661 0.03976 -0.02453 0.03715 -0.02361 C 0.02761 -0.02013 0.01771 -0.01851 0.00816 -0.01504 C 0.00799 -0.01504 -0.00156 -0.01087 -0.00156 -0.01064 C -0.00243 -0.00717 -0.00052 -0.00347 2.22222E-006 5.55556E-006 Z">
                                      <p:cBhvr>
                                        <p:cTn id="33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C 0.00538 -0.00695 0.01475 -0.0169 0.01927 -0.0257 C 0.02031 -0.02778 0.021 -0.03079 0.02257 -0.03218 C 0.02448 -0.0338 0.02691 -0.03357 0.02899 -0.03426 C 0.04375 -0.04445 0.06128 -0.04537 0.07743 -0.04722 C 0.09027 -0.04653 0.1033 -0.0463 0.11614 -0.04514 C 0.12899 -0.04398 0.14097 -0.03496 0.15312 -0.03009 C 0.16007 -0.02732 0.15989 -0.02616 0.16771 -0.01922 C 0.17152 -0.01574 0.17743 -0.00625 0.17743 -0.00625 C 0.15625 0.00069 0.17326 -0.00417 0.12569 -0.00417 E">
                                      <p:cBhvr>
                                        <p:cTn id="34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йте проект, содержащий на форме (жёлтого цвета) Объекты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ый фон, красные буквы, курсив), Метка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зелёный фон, синие буквы)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ноп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надписью «Мет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, процедура которой содержит мет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ывода сообщения: «Первый проект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B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Лёд1"/>
          <p:cNvPicPr/>
          <p:nvPr/>
        </p:nvPicPr>
        <p:blipFill>
          <a:blip r:embed="rId1"/>
          <a:stretch/>
        </p:blipFill>
        <p:spPr>
          <a:xfrm>
            <a:off x="1763640" y="5157720"/>
            <a:ext cx="1224000" cy="1173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>
            <a:hlinkClick r:id="rId2"/>
          </p:cNvPr>
          <p:cNvSpPr/>
          <p:nvPr/>
        </p:nvSpPr>
        <p:spPr>
          <a:xfrm>
            <a:off x="6588000" y="537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ограмме представле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мен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лужит для обращения к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ённого ти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нкрет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ых храниться в ячейках оперативной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ет включать цифры, буквы: латинские, рус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я должно начинаться с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личество символов в имени до 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нято давать приставки именам перем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но не обязатель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500"/>
                            </p:stCondLst>
                            <p:childTnLst>
                              <p:par>
                                <p:cTn id="3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ипы переме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19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979640" y="1628640"/>
            <a:ext cx="67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е числа двойной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енные числа одинарной то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енные числа двойной то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в денежном форм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и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ылки на любой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ые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сание переме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D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D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s 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 </a:t>
            </a: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s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Const</a:t>
            </a:r>
            <a:r>
              <a:rPr b="1" lang="ru-RU" sz="28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=3,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Им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1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 описания переменных и конс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таксис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к вещественные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к стро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=3.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ваивание значений перемен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=3.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Им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t a, b,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5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йте имена 5-ти переменных разного типа: Целые числа, Целые числа двойной длины, Вещественные числа одинарной точности, Логические значения, Дата и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войте им значения в процедуре кнопки и выведите на фор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B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зык визуального объектно-ориентированного программирован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Basi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пользует визуальный метод создания графического интерфейса приложения и объектный метод построения его программного к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rcRect l="0" t="0" r="13622" b="29123"/>
          <a:stretch/>
        </p:blipFill>
        <p:spPr>
          <a:xfrm>
            <a:off x="395280" y="1125360"/>
            <a:ext cx="8424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рифметические и строковые 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Лёд1"/>
          <p:cNvPicPr/>
          <p:nvPr/>
        </p:nvPicPr>
        <p:blipFill>
          <a:blip r:embed="rId2"/>
          <a:stretch/>
        </p:blipFill>
        <p:spPr>
          <a:xfrm>
            <a:off x="1763640" y="3213000"/>
            <a:ext cx="1657440" cy="1589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Лёд1"/>
          <p:cNvPicPr/>
          <p:nvPr/>
        </p:nvPicPr>
        <p:blipFill>
          <a:blip r:embed="rId3"/>
          <a:stretch/>
        </p:blipFill>
        <p:spPr>
          <a:xfrm>
            <a:off x="6012000" y="3141720"/>
            <a:ext cx="1657080" cy="1589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82692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702000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H="1">
            <a:off x="2340000" y="907920"/>
            <a:ext cx="287280" cy="2449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6732720" y="836640"/>
            <a:ext cx="360360" cy="24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500"/>
                            </p:stCondLst>
                            <p:childTnLst>
                              <p:par>
                                <p:cTn id="6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9280" y="119664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, b, 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, 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=3.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= 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= 6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= a + b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i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‘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арифметическое вы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= d + 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‘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строковое вы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t c,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йте имена 2-ти переменных разного типа: Вещественные числа одинарной точности (3 шт.), Строковые данные (3 ш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войте им значения в процедуре кнопки и выведите на форму результаты их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ли применять к числам разные арифметические действия? (проверь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 строковым переменным? (проверь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в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B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мяФункции(СписокАргу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мяФункции(Арг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500"/>
                            </p:stCondLst>
                            <p:childTnLst>
                              <p:par>
                                <p:cTn id="7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7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тематические функци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B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098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n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nd(x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d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gn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r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340000" y="1628640"/>
            <a:ext cx="6516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|X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tg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s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брасывание дробной ча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ибольшее целое число, не превосходящее 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ругление числ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 точн-ю д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с-х зна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чик случайных чисел от 0 до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, если x &gt; 0; 0, если x = 0;  -1, если x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sin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Лёд1"/>
          <p:cNvPicPr/>
          <p:nvPr/>
        </p:nvPicPr>
        <p:blipFill>
          <a:blip r:embed="rId2"/>
          <a:stretch/>
        </p:blipFill>
        <p:spPr>
          <a:xfrm>
            <a:off x="4140360" y="5877000"/>
            <a:ext cx="792000" cy="758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752472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500"/>
                            </p:stCondLst>
                            <p:childTnLst>
                              <p:par>
                                <p:cTn id="7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3000"/>
                            </p:stCondLst>
                            <p:childTnLst>
                              <p:par>
                                <p:cTn id="7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500"/>
                            </p:stCondLst>
                            <p:childTnLst>
                              <p:par>
                                <p:cTn id="7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500"/>
                            </p:stCondLst>
                            <p:childTnLst>
                              <p:par>
                                <p:cTn id="8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6000"/>
                            </p:stCondLst>
                            <p:childTnLst>
                              <p:par>
                                <p:cTn id="8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6500"/>
                            </p:stCondLst>
                            <p:childTnLst>
                              <p:par>
                                <p:cTn id="8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7500"/>
                            </p:stCondLst>
                            <p:childTnLst>
                              <p:par>
                                <p:cTn id="8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ковые функци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B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ина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л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иная о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зиция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ли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Длина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Лёд1"/>
          <p:cNvPicPr/>
          <p:nvPr/>
        </p:nvPicPr>
        <p:blipFill>
          <a:blip r:embed="rId1"/>
          <a:stretch/>
        </p:blipFill>
        <p:spPr>
          <a:xfrm>
            <a:off x="826920" y="4581360"/>
            <a:ext cx="1657440" cy="15894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>
            <a:hlinkClick r:id="rId2"/>
          </p:cNvPr>
          <p:cNvSpPr/>
          <p:nvPr/>
        </p:nvSpPr>
        <p:spPr>
          <a:xfrm>
            <a:off x="6443640" y="51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500"/>
                            </p:stCondLst>
                            <p:childTnLst>
                              <p:par>
                                <p:cTn id="9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500"/>
                            </p:stCondLst>
                            <p:childTnLst>
                              <p:par>
                                <p:cTn id="9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4500"/>
                            </p:stCondLst>
                            <p:childTnLst>
                              <p:par>
                                <p:cTn id="9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500"/>
                            </p:stCondLst>
                            <p:childTnLst>
                              <p:par>
                                <p:cTn id="9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7500"/>
                            </p:stCondLst>
                            <p:childTnLst>
                              <p:par>
                                <p:cTn id="9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8500"/>
                            </p:stCondLst>
                            <p:childTnLst>
                              <p:par>
                                <p:cTn id="9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мер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то будет напечатано?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79280" y="98064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Su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D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, b, c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As 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,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e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As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Cons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=3.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30*pi/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м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C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i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Pri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, c                                   0.5    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),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M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,2,1)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   3        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5867280" y="4581360"/>
            <a:ext cx="25210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5867280" y="5084640"/>
            <a:ext cx="2521080" cy="50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500"/>
                            </p:stCondLst>
                            <p:childTnLst>
                              <p:par>
                                <p:cTn id="9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Ввода и Вы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Bo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глаш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голов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умолчани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InputBo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ведите числ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ункция Окно ввод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gBo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бщ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ЧисКод1 + ЧисКод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голов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sgBo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ве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ункция Панель Сообщени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35280" y="1600200"/>
            <a:ext cx="325116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но В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анель Сооб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Лёд1"/>
          <p:cNvPicPr/>
          <p:nvPr/>
        </p:nvPicPr>
        <p:blipFill>
          <a:blip r:embed="rId3"/>
          <a:stretch/>
        </p:blipFill>
        <p:spPr>
          <a:xfrm>
            <a:off x="5292720" y="5300640"/>
            <a:ext cx="1224000" cy="1173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>
            <a:hlinkClick r:id="rId4"/>
          </p:cNvPr>
          <p:cNvSpPr/>
          <p:nvPr/>
        </p:nvSpPr>
        <p:spPr>
          <a:xfrm>
            <a:off x="7164360" y="5734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0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преобразования типов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05928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x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c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77128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ка символов в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в строку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10-тичн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-рич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оков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10-тичн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-рично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оков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вой код в симв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ка символов в числовой код первого симв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Лёд1"/>
          <p:cNvPicPr/>
          <p:nvPr/>
        </p:nvPicPr>
        <p:blipFill>
          <a:blip r:embed="rId1"/>
          <a:stretch/>
        </p:blipFill>
        <p:spPr>
          <a:xfrm>
            <a:off x="1187280" y="5877000"/>
            <a:ext cx="720720" cy="6904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716436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Лёд1"/>
          <p:cNvPicPr/>
          <p:nvPr/>
        </p:nvPicPr>
        <p:blipFill>
          <a:blip r:embed="rId3"/>
          <a:stretch/>
        </p:blipFill>
        <p:spPr>
          <a:xfrm>
            <a:off x="1187280" y="4076640"/>
            <a:ext cx="720720" cy="690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7093080" y="321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" descr="Лёд1"/>
          <p:cNvPicPr/>
          <p:nvPr/>
        </p:nvPicPr>
        <p:blipFill>
          <a:blip r:embed="rId5"/>
          <a:stretch/>
        </p:blipFill>
        <p:spPr>
          <a:xfrm>
            <a:off x="1187280" y="1052640"/>
            <a:ext cx="720720" cy="690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7740720" y="17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ммирование 2-х чисел, вводимых с помощью диалог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putBo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оследующим отображением результата в диалог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sg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Лёд1"/>
          <p:cNvPicPr/>
          <p:nvPr/>
        </p:nvPicPr>
        <p:blipFill>
          <a:blip r:embed="rId1"/>
          <a:stretch/>
        </p:blipFill>
        <p:spPr>
          <a:xfrm>
            <a:off x="5292720" y="5300640"/>
            <a:ext cx="1224000" cy="1173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>
            <a:hlinkClick r:id="rId2"/>
          </p:cNvPr>
          <p:cNvSpPr/>
          <p:nvPr/>
        </p:nvSpPr>
        <p:spPr>
          <a:xfrm>
            <a:off x="7164360" y="5734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843280" y="566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4572000" y="595008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Basic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язы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ъекты характеризуются свойствами, методами и событ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кт.Свойство = Значение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кт.Метод арг1:=значение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кт_Событие 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ммирование 2-х чисел, вводимых с помощью диалог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putBo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нопка1) Вывод на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ммирование 2-х чисел, вводимых с помощью диалог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xtBo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xtBo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ноп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xtBo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Лёд1"/>
          <p:cNvPicPr/>
          <p:nvPr/>
        </p:nvPicPr>
        <p:blipFill>
          <a:blip r:embed="rId1"/>
          <a:stretch/>
        </p:blipFill>
        <p:spPr>
          <a:xfrm>
            <a:off x="5292720" y="5300640"/>
            <a:ext cx="1224000" cy="11732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>
            <a:hlinkClick r:id="rId2"/>
          </p:cNvPr>
          <p:cNvSpPr/>
          <p:nvPr/>
        </p:nvSpPr>
        <p:spPr>
          <a:xfrm>
            <a:off x="7164360" y="5734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843280" y="566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4572000" y="595008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0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я Д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tmA =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tmB = #1/1/2001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значение текущей даты, которое можно присвоить переменной тип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представляется в вид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сяц/Число/Го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Лёд1"/>
          <p:cNvPicPr/>
          <p:nvPr/>
        </p:nvPicPr>
        <p:blipFill>
          <a:blip r:embed="rId1"/>
          <a:stretch/>
        </p:blipFill>
        <p:spPr>
          <a:xfrm>
            <a:off x="1187280" y="5877000"/>
            <a:ext cx="720720" cy="6904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702000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0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я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30970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ngA =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bel1.Caption=Str(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значение текущего времени, которое можно присвоить переменным тип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представляется в вид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асы:Минуты:Секунд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Лёд1"/>
          <p:cNvPicPr/>
          <p:nvPr/>
        </p:nvPicPr>
        <p:blipFill>
          <a:blip r:embed="rId1"/>
          <a:stretch/>
        </p:blipFill>
        <p:spPr>
          <a:xfrm>
            <a:off x="1187280" y="5877000"/>
            <a:ext cx="720720" cy="6904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702000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0"/>
          <p:cNvSpPr/>
          <p:nvPr/>
        </p:nvSpPr>
        <p:spPr>
          <a:xfrm>
            <a:off x="6084720" y="5877000"/>
            <a:ext cx="1727280" cy="576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6084720" y="1773360"/>
            <a:ext cx="1656000" cy="64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типы алгоритмических структ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нейный алгорит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 котором команды выполняются последовательно, одна за дру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5580000" y="2924280"/>
            <a:ext cx="2737080" cy="2449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948360" y="2421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6948360" y="537372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6084720" y="19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5580000" y="3068640"/>
            <a:ext cx="2737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5867280" y="59500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4716360" y="177336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684360" y="5157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. примеры в нач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0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вл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алгоритма, в которо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ая коман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полняется в зависимости о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стинности услов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язык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B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ер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ер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ер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ерия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4500720" y="162864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900000" y="2349360"/>
            <a:ext cx="2592360" cy="8636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179280" y="3860640"/>
            <a:ext cx="1584360" cy="648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ия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2700360" y="3860640"/>
            <a:ext cx="1584360" cy="648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ия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900000" y="2781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3492360" y="2781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900000" y="450864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492360" y="450864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900000" y="55897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2124000" y="558972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 flipH="1">
            <a:off x="2123640" y="55897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1187280" y="256536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8"/>
          <p:cNvSpPr/>
          <p:nvPr/>
        </p:nvSpPr>
        <p:spPr>
          <a:xfrm>
            <a:off x="2195640" y="177336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826920" y="1628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2195640" y="162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х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395280" y="2205000"/>
            <a:ext cx="36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3635280" y="2565360"/>
            <a:ext cx="4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ж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3" descr="Лёд1"/>
          <p:cNvPicPr/>
          <p:nvPr/>
        </p:nvPicPr>
        <p:blipFill>
          <a:blip r:embed="rId1"/>
          <a:stretch/>
        </p:blipFill>
        <p:spPr>
          <a:xfrm>
            <a:off x="755640" y="5950080"/>
            <a:ext cx="720720" cy="6904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4"/>
          <p:cNvSpPr/>
          <p:nvPr/>
        </p:nvSpPr>
        <p:spPr>
          <a:xfrm>
            <a:off x="702000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0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00"/>
                            </p:stCondLst>
                            <p:childTnLst>
                              <p:par>
                                <p:cTn id="13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оритмическая структура, в которой серия команд (тело цикла) выполняется многок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08000" y="1773360"/>
            <a:ext cx="52563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язы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чётчик=НачЗнач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Зн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аг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чётчик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3995640" y="1700280"/>
            <a:ext cx="0" cy="49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476360" y="177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-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826920" y="2781360"/>
            <a:ext cx="2376720" cy="5763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116000" y="2852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чё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1042920" y="3860640"/>
            <a:ext cx="2016360" cy="7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826920" y="407664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2050920" y="2205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"/>
          <p:cNvSpPr/>
          <p:nvPr/>
        </p:nvSpPr>
        <p:spPr>
          <a:xfrm>
            <a:off x="2050920" y="3357720"/>
            <a:ext cx="0" cy="50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3"/>
          <p:cNvSpPr/>
          <p:nvPr/>
        </p:nvSpPr>
        <p:spPr>
          <a:xfrm>
            <a:off x="205092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4"/>
          <p:cNvSpPr/>
          <p:nvPr/>
        </p:nvSpPr>
        <p:spPr>
          <a:xfrm flipH="1">
            <a:off x="468360" y="4941720"/>
            <a:ext cx="158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 flipV="1">
            <a:off x="468360" y="3068280"/>
            <a:ext cx="0" cy="18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468360" y="3068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3203640" y="3068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8"/>
          <p:cNvSpPr/>
          <p:nvPr/>
        </p:nvSpPr>
        <p:spPr>
          <a:xfrm>
            <a:off x="3564000" y="306864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 flipH="1">
            <a:off x="2050560" y="544500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2050920" y="5445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1" descr="Лёд1"/>
          <p:cNvPicPr/>
          <p:nvPr/>
        </p:nvPicPr>
        <p:blipFill>
          <a:blip r:embed="rId1"/>
          <a:stretch/>
        </p:blipFill>
        <p:spPr>
          <a:xfrm>
            <a:off x="324000" y="5445000"/>
            <a:ext cx="1295280" cy="1241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2"/>
          <p:cNvSpPr/>
          <p:nvPr/>
        </p:nvSpPr>
        <p:spPr>
          <a:xfrm>
            <a:off x="6877080" y="5734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0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кл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 To   N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йте 10 случайных чисел и выведите их на форму в одну стро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йте массив 10 х 10 случайных двузначных чисел, выведите их на форму в виде табл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3">
            <a:hlinkClick r:id="rId1"/>
          </p:cNvPr>
          <p:cNvSpPr/>
          <p:nvPr/>
        </p:nvSpPr>
        <p:spPr>
          <a:xfrm>
            <a:off x="1042920" y="5300640"/>
            <a:ext cx="1152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0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500"/>
                            </p:stCondLst>
                            <p:childTnLst>
                              <p:par>
                                <p:cTn id="1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Шестиугольник 17"/>
          <p:cNvSpPr/>
          <p:nvPr/>
        </p:nvSpPr>
        <p:spPr>
          <a:xfrm>
            <a:off x="1332000" y="2133720"/>
            <a:ext cx="1439640" cy="43164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кл – «пока» с предуслов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900000" y="2781360"/>
            <a:ext cx="2376720" cy="576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1116000" y="2852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1116000" y="3716280"/>
            <a:ext cx="2016000" cy="433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826920" y="3716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2050920" y="256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2050920" y="335772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2050920" y="4869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4"/>
          <p:cNvSpPr/>
          <p:nvPr/>
        </p:nvSpPr>
        <p:spPr>
          <a:xfrm flipH="1">
            <a:off x="539640" y="522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 flipV="1">
            <a:off x="539640" y="2349360"/>
            <a:ext cx="0" cy="288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539640" y="23493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3203640" y="3068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8"/>
          <p:cNvSpPr/>
          <p:nvPr/>
        </p:nvSpPr>
        <p:spPr>
          <a:xfrm>
            <a:off x="3564000" y="306864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9"/>
          <p:cNvSpPr/>
          <p:nvPr/>
        </p:nvSpPr>
        <p:spPr>
          <a:xfrm flipH="1">
            <a:off x="2050560" y="544500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0"/>
          <p:cNvSpPr/>
          <p:nvPr/>
        </p:nvSpPr>
        <p:spPr>
          <a:xfrm>
            <a:off x="2050920" y="5445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1042920" y="4437000"/>
            <a:ext cx="2016360" cy="43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чё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2050920" y="4076640"/>
            <a:ext cx="180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468360" y="134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-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2050920" y="1773360"/>
            <a:ext cx="180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995640" y="1700280"/>
          <a:ext cx="4680000" cy="440856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4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 While </a:t>
                      </a: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о цикл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ётчи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o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50" name="Text Box 22"/>
          <p:cNvSpPr/>
          <p:nvPr/>
        </p:nvSpPr>
        <p:spPr>
          <a:xfrm>
            <a:off x="7164360" y="6165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0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кл – «пока» с предуслов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количество слагаемых простых чисел пока сумма не превысит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о будет значение 10-го числа Фибоначчи: 1, 1, 2, 3, 5, 8, 13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0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500"/>
                            </p:stCondLst>
                            <p:childTnLst>
                              <p:par>
                                <p:cTn id="16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Шестиугольник 17"/>
          <p:cNvSpPr/>
          <p:nvPr/>
        </p:nvSpPr>
        <p:spPr>
          <a:xfrm>
            <a:off x="1332000" y="2133720"/>
            <a:ext cx="1439640" cy="43164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кл – «пока» с постуслов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826920" y="4365720"/>
            <a:ext cx="2376720" cy="576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1042920" y="2781360"/>
            <a:ext cx="201636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"/>
          <p:cNvSpPr/>
          <p:nvPr/>
        </p:nvSpPr>
        <p:spPr>
          <a:xfrm>
            <a:off x="2050920" y="256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2050920" y="3213000"/>
            <a:ext cx="180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3"/>
          <p:cNvSpPr/>
          <p:nvPr/>
        </p:nvSpPr>
        <p:spPr>
          <a:xfrm>
            <a:off x="2050920" y="4869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 flipH="1">
            <a:off x="539640" y="522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5"/>
          <p:cNvSpPr/>
          <p:nvPr/>
        </p:nvSpPr>
        <p:spPr>
          <a:xfrm flipV="1">
            <a:off x="539640" y="2349360"/>
            <a:ext cx="0" cy="288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539640" y="23493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3203640" y="4653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3564000" y="465300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2050560" y="544500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2050920" y="5445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1042920" y="3573360"/>
            <a:ext cx="2016360" cy="43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чё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2050920" y="4005360"/>
            <a:ext cx="180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68360" y="134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-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2050920" y="1773360"/>
            <a:ext cx="180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995640" y="1700280"/>
          <a:ext cx="4969080" cy="440856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44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о цикл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ётчи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op</a:t>
                      </a:r>
                      <a:r>
                        <a:rPr b="1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While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72" name="Text Box 22"/>
          <p:cNvSpPr/>
          <p:nvPr/>
        </p:nvSpPr>
        <p:spPr>
          <a:xfrm>
            <a:off x="7596360" y="623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0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ытийная процедур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синтакси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кт(1)_Событие 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(2).Свойство = Значение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(3).Метод арг1:=знач, арг2:=зн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ссивы являются набором однотипных переменных, объединённых одним именем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ссивы быва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403848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дномерные – пронумерованная последовательность элементов с одним индек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00720" y="3068640"/>
            <a:ext cx="446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ногомерные (двумерные – табличные) - пронумерованная последовательность элементов со многими (с двумя)  индекс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82692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948360" y="623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7" dur="indefinite" restart="never" nodeType="tmRoot">
          <p:childTnLst>
            <p:seq>
              <p:cTn id="1758" dur="indefinite" nodeType="mainSeq">
                <p:childTnLst>
                  <p:par>
                    <p:cTn id="1759" fill="hold">
                      <p:stCondLst>
                        <p:cond delay="0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500"/>
                            </p:stCondLst>
                            <p:childTnLst>
                              <p:par>
                                <p:cTn id="17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2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йте одномерный массив, используя метод «Цикл», состоящий из 10 элементов и выведите его на Форму метод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Лёд1"/>
          <p:cNvPicPr/>
          <p:nvPr/>
        </p:nvPicPr>
        <p:blipFill>
          <a:blip r:embed="rId1"/>
          <a:stretch/>
        </p:blipFill>
        <p:spPr>
          <a:xfrm>
            <a:off x="900000" y="4076640"/>
            <a:ext cx="1657440" cy="15890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5508720" y="44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5" dur="indefinite" restart="never" nodeType="tmRoot">
          <p:childTnLst>
            <p:seq>
              <p:cTn id="1776" dur="indefinite" nodeType="mainSeq">
                <p:childTnLst>
                  <p:par>
                    <p:cTn id="1777" fill="hold">
                      <p:stCondLst>
                        <p:cond delay="0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500"/>
                            </p:stCondLst>
                            <p:childTnLst>
                              <p:par>
                                <p:cTn id="17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йте двумерный массив, состоящий из 10 строк и 5 столбцов, выведите его на Форму методо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Лёд1"/>
          <p:cNvPicPr/>
          <p:nvPr/>
        </p:nvPicPr>
        <p:blipFill>
          <a:blip r:embed="rId1"/>
          <a:stretch/>
        </p:blipFill>
        <p:spPr>
          <a:xfrm>
            <a:off x="900000" y="4005360"/>
            <a:ext cx="1657440" cy="158904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5"/>
          <p:cNvSpPr/>
          <p:nvPr/>
        </p:nvSpPr>
        <p:spPr>
          <a:xfrm>
            <a:off x="5508720" y="44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0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фически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.PS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Step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оор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Коор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точ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ic1.PSet (bytX1, bytY1), vb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ор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Коор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ic1.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i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t (bytX1, bytY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44328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цвета пиксел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ой точки рис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ое значение цвета пикс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Лёд1"/>
          <p:cNvPicPr/>
          <p:nvPr/>
        </p:nvPicPr>
        <p:blipFill>
          <a:blip r:embed="rId1"/>
          <a:stretch/>
        </p:blipFill>
        <p:spPr>
          <a:xfrm>
            <a:off x="1979640" y="5823000"/>
            <a:ext cx="1079640" cy="1035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7"/>
          <p:cNvSpPr/>
          <p:nvPr/>
        </p:nvSpPr>
        <p:spPr>
          <a:xfrm>
            <a:off x="7236000" y="5950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 flipH="1">
            <a:off x="2555640" y="1989000"/>
            <a:ext cx="863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"/>
          <p:cNvSpPr/>
          <p:nvPr/>
        </p:nvSpPr>
        <p:spPr>
          <a:xfrm flipH="1">
            <a:off x="3634920" y="1989000"/>
            <a:ext cx="792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 flipH="1">
            <a:off x="4572000" y="198900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1"/>
          <p:cNvSpPr/>
          <p:nvPr/>
        </p:nvSpPr>
        <p:spPr>
          <a:xfrm flipH="1">
            <a:off x="3347640" y="4724280"/>
            <a:ext cx="6476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2"/>
          <p:cNvSpPr/>
          <p:nvPr/>
        </p:nvSpPr>
        <p:spPr>
          <a:xfrm flipH="1">
            <a:off x="2268360" y="4797360"/>
            <a:ext cx="64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5" dur="indefinite" restart="never" nodeType="tmRoot">
          <p:childTnLst>
            <p:seq>
              <p:cTn id="1816" dur="indefinite" nodeType="mainSeq">
                <p:childTnLst>
                  <p:par>
                    <p:cTn id="1817" fill="hold">
                      <p:stCondLst>
                        <p:cond delay="0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500"/>
                            </p:stCondLst>
                            <p:childTnLst>
                              <p:par>
                                <p:cTn id="18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1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10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8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5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6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8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0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77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7" dur="770" fill="hold"/>
                                        <p:tgtEl>
                                          <p:spTgt spid="2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9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1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фически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,Y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2, Y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,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,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ашенный прямо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ic1.Line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0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-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0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0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255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65128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ия с начальны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1,Y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ечны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2,Y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-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6659640" y="566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Лёд1"/>
          <p:cNvPicPr/>
          <p:nvPr/>
        </p:nvPicPr>
        <p:blipFill>
          <a:blip r:embed="rId1"/>
          <a:stretch/>
        </p:blipFill>
        <p:spPr>
          <a:xfrm>
            <a:off x="611280" y="5349960"/>
            <a:ext cx="10810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3" dur="indefinite" restart="never" nodeType="tmRoot">
          <p:childTnLst>
            <p:seq>
              <p:cTn id="1924" dur="indefinite" nodeType="mainSeq">
                <p:childTnLst>
                  <p:par>
                    <p:cTn id="1925" fill="hold">
                      <p:stCondLst>
                        <p:cond delay="0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500"/>
                            </p:stCondLst>
                            <p:childTnLst>
                              <p:par>
                                <p:cTn id="19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1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9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7" dur="1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9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фически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6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.Circ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у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, 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, 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, 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нош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pic1.Circle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, 35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vbRed, , , 0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43528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Отношение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о, Конец (углы в рад) – для рисования дуг и секторов, ов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164360" y="580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Лёд1"/>
          <p:cNvPicPr/>
          <p:nvPr/>
        </p:nvPicPr>
        <p:blipFill>
          <a:blip r:embed="rId1"/>
          <a:stretch/>
        </p:blipFill>
        <p:spPr>
          <a:xfrm>
            <a:off x="755640" y="5351400"/>
            <a:ext cx="1079640" cy="1035000"/>
          </a:xfrm>
          <a:prstGeom prst="rect">
            <a:avLst/>
          </a:prstGeom>
          <a:ln w="0">
            <a:noFill/>
          </a:ln>
        </p:spPr>
      </p:pic>
      <p:sp>
        <p:nvSpPr>
          <p:cNvPr id="306" name="Line 8"/>
          <p:cNvSpPr/>
          <p:nvPr/>
        </p:nvSpPr>
        <p:spPr>
          <a:xfrm>
            <a:off x="1332000" y="249228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2124000" y="2565360"/>
            <a:ext cx="165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2484360" y="2492280"/>
            <a:ext cx="1800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>
            <a:off x="3708360" y="2492280"/>
            <a:ext cx="1440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2"/>
          <p:cNvSpPr/>
          <p:nvPr/>
        </p:nvSpPr>
        <p:spPr>
          <a:xfrm>
            <a:off x="4932360" y="2492280"/>
            <a:ext cx="431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3"/>
          <p:cNvSpPr/>
          <p:nvPr/>
        </p:nvSpPr>
        <p:spPr>
          <a:xfrm flipH="1">
            <a:off x="250560" y="2924280"/>
            <a:ext cx="144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4"/>
          <p:cNvSpPr/>
          <p:nvPr/>
        </p:nvSpPr>
        <p:spPr>
          <a:xfrm>
            <a:off x="250920" y="3716280"/>
            <a:ext cx="144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9" dur="indefinite" restart="never" nodeType="tmRoot">
          <p:childTnLst>
            <p:seq>
              <p:cTn id="1980" dur="indefinite" nodeType="mainSeq">
                <p:childTnLst>
                  <p:par>
                    <p:cTn id="1981" fill="hold">
                      <p:stCondLst>
                        <p:cond delay="0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500"/>
                            </p:stCondLst>
                            <p:childTnLst>
                              <p:par>
                                <p:cTn id="19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5500"/>
                            </p:stCondLst>
                            <p:childTnLst>
                              <p:par>
                                <p:cTn id="20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9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8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9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1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3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77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8" dur="770" fill="hold"/>
                                        <p:tgtEl>
                                          <p:spTgt spid="3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0" dur="77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2" dur="77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77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9" dur="770" fill="hold"/>
                                        <p:tgtEl>
                                          <p:spTgt spid="3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1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3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77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0" dur="770" fill="hold"/>
                                        <p:tgtEl>
                                          <p:spTgt spid="3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2" dur="77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4" dur="77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0" dur="77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1" dur="770" fill="hold"/>
                                        <p:tgtEl>
                                          <p:spTgt spid="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3" dur="77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5" dur="77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1" dur="77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2" dur="770" fill="hold"/>
                                        <p:tgtEl>
                                          <p:spTgt spid="3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4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6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0" dur="77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1" dur="770" fill="hold"/>
                                        <p:tgtEl>
                                          <p:spTgt spid="3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3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5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хнология решения задач с помощью компьютера состоит из следующих этап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ение описательной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ение компьютерной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ный 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результатов и корректировка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04000" y="566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Лёд1"/>
          <p:cNvPicPr/>
          <p:nvPr/>
        </p:nvPicPr>
        <p:blipFill>
          <a:blip r:embed="rId1"/>
          <a:stretch/>
        </p:blipFill>
        <p:spPr>
          <a:xfrm>
            <a:off x="1476360" y="5373720"/>
            <a:ext cx="1008000" cy="966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Лёд1"/>
          <p:cNvPicPr/>
          <p:nvPr/>
        </p:nvPicPr>
        <p:blipFill>
          <a:blip r:embed="rId2"/>
          <a:stretch/>
        </p:blipFill>
        <p:spPr>
          <a:xfrm>
            <a:off x="3203640" y="5373720"/>
            <a:ext cx="1008000" cy="9666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Лёд1"/>
          <p:cNvPicPr/>
          <p:nvPr/>
        </p:nvPicPr>
        <p:blipFill>
          <a:blip r:embed="rId3"/>
          <a:stretch/>
        </p:blipFill>
        <p:spPr>
          <a:xfrm>
            <a:off x="4859280" y="5299200"/>
            <a:ext cx="1081080" cy="10364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0"/>
          <p:cNvSpPr/>
          <p:nvPr/>
        </p:nvSpPr>
        <p:spPr>
          <a:xfrm>
            <a:off x="1692360" y="566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3492360" y="566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14836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7" dur="indefinite" restart="never" nodeType="tmRoot">
          <p:childTnLst>
            <p:seq>
              <p:cTn id="2108" dur="indefinite" nodeType="mainSeq">
                <p:childTnLst>
                  <p:par>
                    <p:cTn id="2109" fill="hold">
                      <p:stCondLst>
                        <p:cond delay="0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9" dur="1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5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1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7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перссылка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D –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держка учебника Н.Д. Угринович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0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яющие элементы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бъекты, реагирующие на события, производимые пользователем и являющиеся элемент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ого интерфейса 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16360" y="1989000"/>
            <a:ext cx="4968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андные кнопк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But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ключатели или флажк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я выбор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onsBut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rcRect l="2961" t="22636" r="94094" b="73441"/>
          <a:stretch/>
        </p:blipFill>
        <p:spPr>
          <a:xfrm>
            <a:off x="1835280" y="21337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2"/>
          <a:srcRect l="594" t="26963" r="97043" b="70286"/>
          <a:stretch/>
        </p:blipFill>
        <p:spPr>
          <a:xfrm>
            <a:off x="1835280" y="3141720"/>
            <a:ext cx="718920" cy="628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3"/>
          <a:srcRect l="2961" t="26564" r="94094" b="69494"/>
          <a:stretch/>
        </p:blipFill>
        <p:spPr>
          <a:xfrm>
            <a:off x="1835280" y="4149720"/>
            <a:ext cx="7156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987280" y="189000"/>
            <a:ext cx="5256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овые пол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xt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бинированный список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oBo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уно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ctureBo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сы прокрутк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scrollBa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VscrollBa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файлов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ListBo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rcRect l="2961" t="19043" r="94090" b="77369"/>
          <a:stretch/>
        </p:blipFill>
        <p:spPr>
          <a:xfrm>
            <a:off x="1835280" y="260280"/>
            <a:ext cx="790560" cy="72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2961" t="29960" r="94023" b="66462"/>
          <a:stretch/>
        </p:blipFill>
        <p:spPr>
          <a:xfrm>
            <a:off x="1835280" y="1125360"/>
            <a:ext cx="792000" cy="70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3"/>
          <a:srcRect l="539" t="30152" r="97043" b="66614"/>
          <a:stretch/>
        </p:blipFill>
        <p:spPr>
          <a:xfrm>
            <a:off x="1835280" y="1916280"/>
            <a:ext cx="790560" cy="79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4"/>
          <a:srcRect l="3101" t="15736" r="93938" b="81114"/>
          <a:stretch/>
        </p:blipFill>
        <p:spPr>
          <a:xfrm>
            <a:off x="1763640" y="2852640"/>
            <a:ext cx="865440" cy="69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5"/>
          <a:srcRect l="624" t="34444" r="97043" b="63484"/>
          <a:stretch/>
        </p:blipFill>
        <p:spPr>
          <a:xfrm>
            <a:off x="468360" y="3860640"/>
            <a:ext cx="11509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"/>
          <p:cNvPicPr/>
          <p:nvPr/>
        </p:nvPicPr>
        <p:blipFill>
          <a:blip r:embed="rId6"/>
          <a:srcRect l="3806" t="33760" r="94633" b="62662"/>
          <a:stretch/>
        </p:blipFill>
        <p:spPr>
          <a:xfrm>
            <a:off x="1835280" y="3716280"/>
            <a:ext cx="798480" cy="115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"/>
          <p:cNvPicPr/>
          <p:nvPr/>
        </p:nvPicPr>
        <p:blipFill>
          <a:blip r:embed="rId7"/>
          <a:srcRect l="3374" t="40892" r="94094" b="55284"/>
          <a:stretch/>
        </p:blipFill>
        <p:spPr>
          <a:xfrm>
            <a:off x="1835280" y="5300640"/>
            <a:ext cx="8254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а – это объект, представляющий собой окно на экране, в котором размещаются управляющие элемен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8871" t="14736" r="35025" b="28169"/>
          <a:stretch/>
        </p:blipFill>
        <p:spPr>
          <a:xfrm>
            <a:off x="2124000" y="2708280"/>
            <a:ext cx="5040360" cy="3846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>
            <a:lum contrast="12000"/>
          </a:blip>
          <a:srcRect l="8856" t="14736" r="35025" b="28169"/>
          <a:stretch/>
        </p:blipFill>
        <p:spPr>
          <a:xfrm>
            <a:off x="2124000" y="2708280"/>
            <a:ext cx="50403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т файлов, которые используются для разработки приложе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60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 проекта (расшир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.v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ы форм (расшир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.f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ы основных модулей (расшир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.b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лы модулей классов (расшир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.c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96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96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96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96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йте проект «Проба», в состав которого входит кнопка с надписью «Выход». Создать процедуру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1_ClicK (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, в которой всего один оператор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. Проверьте работоспособность проекта, запустив его на испол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Лёд1"/>
          <p:cNvPicPr/>
          <p:nvPr/>
        </p:nvPicPr>
        <p:blipFill>
          <a:blip r:embed="rId1"/>
          <a:stretch/>
        </p:blipFill>
        <p:spPr>
          <a:xfrm>
            <a:off x="1116000" y="5219640"/>
            <a:ext cx="1368360" cy="1311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6588000" y="566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B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3:34:14Z</dcterms:created>
  <dc:creator>ХАС</dc:creator>
  <dc:description/>
  <dc:language>en-US</dc:language>
  <cp:lastModifiedBy>has20071@yandex.ru</cp:lastModifiedBy>
  <dcterms:modified xsi:type="dcterms:W3CDTF">2017-03-14T17:50:31Z</dcterms:modified>
  <cp:revision>107</cp:revision>
  <dc:subject/>
  <dc:title>Объектно-ориентированное событийное программирование на VB6</dc:title>
</cp:coreProperties>
</file>