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.jpeg" ContentType="image/jpeg"/>
  <Override PartName="/ppt/media/image10.png" ContentType="image/png"/>
  <Override PartName="/ppt/media/image47.png" ContentType="image/png"/>
  <Override PartName="/ppt/media/image25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35.png" ContentType="image/png"/>
  <Override PartName="/ppt/media/image37.png" ContentType="image/png"/>
  <Override PartName="/ppt/media/image36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33.png" ContentType="image/png"/>
  <Override PartName="/ppt/media/image8.png" ContentType="image/png"/>
  <Override PartName="/ppt/media/image14.jpeg" ContentType="image/jpeg"/>
  <Override PartName="/ppt/media/image45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46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51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9EB-71C3-4DCC-822F-0662C3E8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7307-38C8-492A-8599-04604514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49A-1181-4C17-A4ED-DC51565B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2AE-4AF5-4EEC-8497-33945A8D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88C-BAFA-415C-BF2C-28C9B157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664-BC2E-4598-A8B4-66C15A89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5AE-8C72-465E-B4FB-02EC3717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09D-1C0C-44C5-BBD3-C127E006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EC9-2669-4C01-961E-B4EADBC8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EDB-3549-4BCA-8833-219F4997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D03-ABA0-449D-8A2F-B763E74A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F57-79B4-464D-AB90-1D0CB290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ff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ff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ff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ff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B034-A59C-4EAB-9D94-BCC275C8CC6A}" type="slidenum">
              <a:rPr b="0" lang="ru-RU" sz="1400" spc="-1" strike="noStrike">
                <a:solidFill>
                  <a:srgbClr val="66ff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371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imes New Roman"/>
              </a:rPr>
              <a:t>Этап </a:t>
            </a:r>
            <a:br>
              <a:rPr sz="5400"/>
            </a:br>
            <a:r>
              <a:rPr b="1" lang="ru-RU" sz="5400" spc="-1" strike="noStrike">
                <a:solidFill>
                  <a:srgbClr val="ffcc00"/>
                </a:solidFill>
                <a:latin typeface="Times New Roman"/>
              </a:rPr>
              <a:t>«Угадай программу»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AutoShape 10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3" name="AutoShape 11">
            <a:hlinkClick r:id="" action="ppaction://hlinkshowjump?jump=last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7"/>
          <p:cNvPicPr/>
          <p:nvPr/>
        </p:nvPicPr>
        <p:blipFill>
          <a:blip r:embed="rId1"/>
          <a:stretch/>
        </p:blipFill>
        <p:spPr>
          <a:xfrm>
            <a:off x="684360" y="333360"/>
            <a:ext cx="7619760" cy="55627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1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80" name="AutoShape 12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2"/>
          <a:stretch/>
        </p:blipFill>
        <p:spPr>
          <a:xfrm>
            <a:off x="8643960" y="111240"/>
            <a:ext cx="37476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1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83" name="AutoShape 12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84" name="Картинка 2" descr="Вырезка экрана"/>
          <p:cNvPicPr/>
          <p:nvPr/>
        </p:nvPicPr>
        <p:blipFill>
          <a:blip r:embed="rId1"/>
          <a:stretch/>
        </p:blipFill>
        <p:spPr>
          <a:xfrm>
            <a:off x="541440" y="735120"/>
            <a:ext cx="8037360" cy="531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2"/>
          <a:stretch/>
        </p:blipFill>
        <p:spPr>
          <a:xfrm>
            <a:off x="8656560" y="476280"/>
            <a:ext cx="41904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1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87" name="AutoShape 12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88" name="Картинка 2" descr=""/>
          <p:cNvPicPr/>
          <p:nvPr/>
        </p:nvPicPr>
        <p:blipFill>
          <a:blip r:embed="rId1"/>
          <a:stretch/>
        </p:blipFill>
        <p:spPr>
          <a:xfrm>
            <a:off x="401760" y="981000"/>
            <a:ext cx="8237520" cy="491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2"/>
          <a:stretch/>
        </p:blipFill>
        <p:spPr>
          <a:xfrm>
            <a:off x="8459640" y="333360"/>
            <a:ext cx="540000" cy="4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1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1" name="AutoShape 12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92" name="Картинка 2" descr="Вырезка экрана"/>
          <p:cNvPicPr/>
          <p:nvPr/>
        </p:nvPicPr>
        <p:blipFill>
          <a:blip r:embed="rId1"/>
          <a:stretch/>
        </p:blipFill>
        <p:spPr>
          <a:xfrm>
            <a:off x="685800" y="654120"/>
            <a:ext cx="7180200" cy="5151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"/>
          <p:cNvPicPr/>
          <p:nvPr/>
        </p:nvPicPr>
        <p:blipFill>
          <a:blip r:embed="rId2"/>
          <a:stretch/>
        </p:blipFill>
        <p:spPr>
          <a:xfrm>
            <a:off x="8440560" y="318960"/>
            <a:ext cx="466920" cy="4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11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5" name="AutoShape 12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96" name="Картинка 2" descr="Вырезка экрана"/>
          <p:cNvPicPr/>
          <p:nvPr/>
        </p:nvPicPr>
        <p:blipFill>
          <a:blip r:embed="rId1"/>
          <a:stretch/>
        </p:blipFill>
        <p:spPr>
          <a:xfrm>
            <a:off x="293760" y="836640"/>
            <a:ext cx="8650080" cy="518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8442360" y="179280"/>
            <a:ext cx="517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11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9" name="AutoShape 12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00" name="Картинка 8" descr="Вырезка экрана"/>
          <p:cNvPicPr/>
          <p:nvPr/>
        </p:nvPicPr>
        <p:blipFill>
          <a:blip r:embed="rId1"/>
          <a:stretch/>
        </p:blipFill>
        <p:spPr>
          <a:xfrm>
            <a:off x="2268360" y="404640"/>
            <a:ext cx="3870360" cy="4834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8442360" y="366840"/>
            <a:ext cx="53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14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56307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5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04" name="AutoShape 16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8485200" y="260280"/>
            <a:ext cx="536400" cy="4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7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07" name="AutoShape 8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08" name="Рисунок 2" descr="Вырезка экрана"/>
          <p:cNvPicPr/>
          <p:nvPr/>
        </p:nvPicPr>
        <p:blipFill>
          <a:blip r:embed="rId1"/>
          <a:stretch/>
        </p:blipFill>
        <p:spPr>
          <a:xfrm>
            <a:off x="324000" y="230040"/>
            <a:ext cx="7832520" cy="5869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8477280" y="230040"/>
            <a:ext cx="52380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18"/>
          <p:cNvPicPr/>
          <p:nvPr/>
        </p:nvPicPr>
        <p:blipFill>
          <a:blip r:embed="rId1"/>
          <a:stretch/>
        </p:blipFill>
        <p:spPr>
          <a:xfrm>
            <a:off x="179280" y="765000"/>
            <a:ext cx="8274240" cy="51800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7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12" name="AutoShape 8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8453520" y="189000"/>
            <a:ext cx="480960" cy="39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7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15" name="AutoShape 8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16" name="Рисунок 1" descr="Вырезка экрана"/>
          <p:cNvPicPr/>
          <p:nvPr/>
        </p:nvPicPr>
        <p:blipFill>
          <a:blip r:embed="rId1"/>
          <a:stretch/>
        </p:blipFill>
        <p:spPr>
          <a:xfrm>
            <a:off x="1824120" y="461880"/>
            <a:ext cx="5495760" cy="5934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8551800" y="255600"/>
            <a:ext cx="480960" cy="41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равила выполнения задания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ff33"/>
              </a:buClr>
              <a:buSzPct val="200000"/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Times New Roman"/>
              </a:rPr>
              <a:t>В данном задании вы должны просмотреть все слайды и узнать по внешнему виду окна программы название данного компьютерного приложения</a:t>
            </a:r>
            <a:endParaRPr b="0" lang="en-US" sz="36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6" name="AutoShape 11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7" name="AutoShape 12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16"/>
          <p:cNvPicPr/>
          <p:nvPr/>
        </p:nvPicPr>
        <p:blipFill>
          <a:blip r:embed="rId1"/>
          <a:stretch/>
        </p:blipFill>
        <p:spPr>
          <a:xfrm>
            <a:off x="2427120" y="685800"/>
            <a:ext cx="3942000" cy="50418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7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20" name="AutoShape 8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8512200" y="237960"/>
            <a:ext cx="523800" cy="4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20"/>
          <p:cNvPicPr/>
          <p:nvPr/>
        </p:nvPicPr>
        <p:blipFill>
          <a:blip r:embed="rId1"/>
          <a:stretch/>
        </p:blipFill>
        <p:spPr>
          <a:xfrm>
            <a:off x="324000" y="189000"/>
            <a:ext cx="7819920" cy="57909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7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24" name="AutoShape 8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2"/>
          <a:stretch/>
        </p:blipFill>
        <p:spPr>
          <a:xfrm>
            <a:off x="8317080" y="333360"/>
            <a:ext cx="50292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15"/>
          <p:cNvPicPr/>
          <p:nvPr/>
        </p:nvPicPr>
        <p:blipFill>
          <a:blip r:embed="rId1"/>
          <a:stretch/>
        </p:blipFill>
        <p:spPr>
          <a:xfrm>
            <a:off x="1549440" y="1365120"/>
            <a:ext cx="6222960" cy="40132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7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28" name="AutoShape 8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8467560" y="195120"/>
            <a:ext cx="513000" cy="3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425080" cy="5148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32" name="AutoShape 6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8604360" y="196920"/>
            <a:ext cx="46980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254240" y="914400"/>
            <a:ext cx="6637320" cy="50292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5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36" name="AutoShape 6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8540640" y="345960"/>
            <a:ext cx="53676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5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39" name="AutoShape 6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40" name="Рисунок 1" descr="Вырезка экрана"/>
          <p:cNvPicPr/>
          <p:nvPr/>
        </p:nvPicPr>
        <p:blipFill>
          <a:blip r:embed="rId1"/>
          <a:stretch/>
        </p:blipFill>
        <p:spPr>
          <a:xfrm>
            <a:off x="353880" y="568440"/>
            <a:ext cx="8105760" cy="5422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8518680" y="369720"/>
            <a:ext cx="506160" cy="3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6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43" name="AutoShape 7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8325000" y="222120"/>
            <a:ext cx="529920" cy="408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Adobe Reader.jpg"/>
          <p:cNvPicPr/>
          <p:nvPr/>
        </p:nvPicPr>
        <p:blipFill>
          <a:blip r:embed="rId2"/>
          <a:srcRect l="0" t="0" r="12501" b="0"/>
          <a:stretch/>
        </p:blipFill>
        <p:spPr>
          <a:xfrm>
            <a:off x="500040" y="785880"/>
            <a:ext cx="8001000" cy="52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4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47" name="AutoShape 5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01760" y="944640"/>
            <a:ext cx="8340480" cy="496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8439120" y="314280"/>
            <a:ext cx="536760" cy="42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00"/>
                </a:solidFill>
                <a:latin typeface="Times New Roman"/>
              </a:rPr>
              <a:t>Окончание этапа.</a:t>
            </a:r>
            <a:br>
              <a:rPr sz="7200"/>
            </a:br>
            <a:r>
              <a:rPr b="0" lang="ru-RU" sz="7200" spc="-1" strike="noStrike">
                <a:solidFill>
                  <a:srgbClr val="ffcc00"/>
                </a:solidFill>
                <a:latin typeface="Times New Roman"/>
              </a:rPr>
              <a:t>Желаем успеха!</a:t>
            </a:r>
            <a:br>
              <a:rPr sz="7200"/>
            </a:b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AutoShape 5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52" name="AutoShape 6">
            <a:hlinkClick r:id="" action="ppaction://hlinkshowjump?jump=firs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1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9" name="AutoShape 12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50" name="Picture 14" descr=""/>
          <p:cNvPicPr/>
          <p:nvPr/>
        </p:nvPicPr>
        <p:blipFill>
          <a:blip r:embed="rId1"/>
          <a:stretch/>
        </p:blipFill>
        <p:spPr>
          <a:xfrm>
            <a:off x="8566200" y="333360"/>
            <a:ext cx="314280" cy="431640"/>
          </a:xfrm>
          <a:prstGeom prst="rect">
            <a:avLst/>
          </a:prstGeom>
          <a:ln w="0">
            <a:noFill/>
          </a:ln>
        </p:spPr>
      </p:pic>
      <p:pic>
        <p:nvPicPr>
          <p:cNvPr id="51" name="Картинка 4" descr=""/>
          <p:cNvPicPr/>
          <p:nvPr/>
        </p:nvPicPr>
        <p:blipFill>
          <a:blip r:embed="rId2"/>
          <a:stretch/>
        </p:blipFill>
        <p:spPr>
          <a:xfrm>
            <a:off x="68400" y="814320"/>
            <a:ext cx="886752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11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3" name="AutoShape 12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54" name="Picture 14" descr=""/>
          <p:cNvPicPr/>
          <p:nvPr/>
        </p:nvPicPr>
        <p:blipFill>
          <a:blip r:embed="rId1"/>
          <a:stretch/>
        </p:blipFill>
        <p:spPr>
          <a:xfrm>
            <a:off x="8516880" y="333360"/>
            <a:ext cx="405000" cy="503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UnrealCommander.jpg"/>
          <p:cNvPicPr/>
          <p:nvPr/>
        </p:nvPicPr>
        <p:blipFill>
          <a:blip r:embed="rId2"/>
          <a:srcRect l="0" t="0" r="21095" b="0"/>
          <a:stretch/>
        </p:blipFill>
        <p:spPr>
          <a:xfrm>
            <a:off x="857160" y="785880"/>
            <a:ext cx="721512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2">
            <a:hlinkClick r:id="" action="ppaction://hlinkshowjump?jump=nextslide"/>
          </p:cNvPr>
          <p:cNvSpPr/>
          <p:nvPr/>
        </p:nvSpPr>
        <p:spPr>
          <a:xfrm>
            <a:off x="2916360" y="907920"/>
            <a:ext cx="71280" cy="7308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3080"/>
              <a:gd name="textAreaBottom" fmla="*/ 68760 h 73080"/>
            </a:gdLst>
            <a:ahLst/>
            <a:rect l="textAreaLeft" t="textAreaTop" r="textAreaRight" b="textAreaBottom"/>
            <a:pathLst>
              <a:path w="21600" h="22143">
                <a:moveTo>
                  <a:pt x="0" y="0"/>
                </a:moveTo>
                <a:lnTo>
                  <a:pt x="21600" y="0"/>
                </a:lnTo>
                <a:lnTo>
                  <a:pt x="21600" y="22143"/>
                </a:lnTo>
                <a:lnTo>
                  <a:pt x="0" y="22143"/>
                </a:lnTo>
                <a:close/>
              </a:path>
              <a:path fill="lightenLess" w="21600" h="22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43">
                <a:moveTo>
                  <a:pt x="21600" y="0"/>
                </a:moveTo>
                <a:lnTo>
                  <a:pt x="21600" y="22143"/>
                </a:lnTo>
                <a:lnTo>
                  <a:pt x="20200" y="20743"/>
                </a:lnTo>
                <a:lnTo>
                  <a:pt x="20200" y="1400"/>
                </a:lnTo>
                <a:close/>
              </a:path>
              <a:path fill="darkenLess" w="21600" h="22143">
                <a:moveTo>
                  <a:pt x="21600" y="22143"/>
                </a:moveTo>
                <a:lnTo>
                  <a:pt x="0" y="22143"/>
                </a:lnTo>
                <a:lnTo>
                  <a:pt x="1400" y="20743"/>
                </a:lnTo>
                <a:lnTo>
                  <a:pt x="20200" y="20743"/>
                </a:lnTo>
                <a:close/>
              </a:path>
              <a:path fill="lighten" w="21600" h="22143">
                <a:moveTo>
                  <a:pt x="0" y="22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43"/>
                </a:lnTo>
                <a:close/>
              </a:path>
              <a:path fill="darken" w="21600" h="22143">
                <a:moveTo>
                  <a:pt x="3794" y="4065"/>
                </a:moveTo>
                <a:lnTo>
                  <a:pt x="17806" y="11071"/>
                </a:lnTo>
                <a:lnTo>
                  <a:pt x="3794" y="1807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7" name="AutoShape 13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8" name="AutoShape 14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8532720" y="333360"/>
            <a:ext cx="400320" cy="431640"/>
          </a:xfrm>
          <a:prstGeom prst="rect">
            <a:avLst/>
          </a:prstGeom>
          <a:ln w="0">
            <a:noFill/>
          </a:ln>
        </p:spPr>
      </p:pic>
      <p:pic>
        <p:nvPicPr>
          <p:cNvPr id="60" name="Клип 7" descr="Audacity.jpg"/>
          <p:cNvPicPr/>
          <p:nvPr/>
        </p:nvPicPr>
        <p:blipFill>
          <a:blip r:embed="rId2"/>
          <a:stretch/>
        </p:blipFill>
        <p:spPr>
          <a:xfrm>
            <a:off x="353880" y="928800"/>
            <a:ext cx="850428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2">
            <a:hlinkClick r:id="" action="ppaction://hlinkshowjump?jump=nextslide"/>
          </p:cNvPr>
          <p:cNvSpPr/>
          <p:nvPr/>
        </p:nvSpPr>
        <p:spPr>
          <a:xfrm>
            <a:off x="2916360" y="907920"/>
            <a:ext cx="71280" cy="7308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3080"/>
              <a:gd name="textAreaBottom" fmla="*/ 68760 h 73080"/>
            </a:gdLst>
            <a:ahLst/>
            <a:rect l="textAreaLeft" t="textAreaTop" r="textAreaRight" b="textAreaBottom"/>
            <a:pathLst>
              <a:path w="21600" h="22143">
                <a:moveTo>
                  <a:pt x="0" y="0"/>
                </a:moveTo>
                <a:lnTo>
                  <a:pt x="21600" y="0"/>
                </a:lnTo>
                <a:lnTo>
                  <a:pt x="21600" y="22143"/>
                </a:lnTo>
                <a:lnTo>
                  <a:pt x="0" y="22143"/>
                </a:lnTo>
                <a:close/>
              </a:path>
              <a:path fill="lightenLess" w="21600" h="22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43">
                <a:moveTo>
                  <a:pt x="21600" y="0"/>
                </a:moveTo>
                <a:lnTo>
                  <a:pt x="21600" y="22143"/>
                </a:lnTo>
                <a:lnTo>
                  <a:pt x="20200" y="20743"/>
                </a:lnTo>
                <a:lnTo>
                  <a:pt x="20200" y="1400"/>
                </a:lnTo>
                <a:close/>
              </a:path>
              <a:path fill="darkenLess" w="21600" h="22143">
                <a:moveTo>
                  <a:pt x="21600" y="22143"/>
                </a:moveTo>
                <a:lnTo>
                  <a:pt x="0" y="22143"/>
                </a:lnTo>
                <a:lnTo>
                  <a:pt x="1400" y="20743"/>
                </a:lnTo>
                <a:lnTo>
                  <a:pt x="20200" y="20743"/>
                </a:lnTo>
                <a:close/>
              </a:path>
              <a:path fill="lighten" w="21600" h="22143">
                <a:moveTo>
                  <a:pt x="0" y="22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43"/>
                </a:lnTo>
                <a:close/>
              </a:path>
              <a:path fill="darken" w="21600" h="22143">
                <a:moveTo>
                  <a:pt x="3794" y="4065"/>
                </a:moveTo>
                <a:lnTo>
                  <a:pt x="17806" y="11071"/>
                </a:lnTo>
                <a:lnTo>
                  <a:pt x="3794" y="1807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2" name="AutoShape 13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3" name="AutoShape 14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1071720" y="642960"/>
            <a:ext cx="6910200" cy="5033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2"/>
          <a:stretch/>
        </p:blipFill>
        <p:spPr>
          <a:xfrm>
            <a:off x="8628120" y="272880"/>
            <a:ext cx="407880" cy="5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11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7" name="AutoShape 12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68" name="Picture 14" descr=""/>
          <p:cNvPicPr/>
          <p:nvPr/>
        </p:nvPicPr>
        <p:blipFill>
          <a:blip r:embed="rId1"/>
          <a:stretch/>
        </p:blipFill>
        <p:spPr>
          <a:xfrm>
            <a:off x="8658360" y="333360"/>
            <a:ext cx="377640" cy="504720"/>
          </a:xfrm>
          <a:prstGeom prst="rect">
            <a:avLst/>
          </a:prstGeom>
          <a:ln w="0">
            <a:noFill/>
          </a:ln>
        </p:spPr>
      </p:pic>
      <p:pic>
        <p:nvPicPr>
          <p:cNvPr id="69" name="Клип 6" descr="Windows Media Center.jpg"/>
          <p:cNvPicPr/>
          <p:nvPr/>
        </p:nvPicPr>
        <p:blipFill>
          <a:blip r:embed="rId2"/>
          <a:stretch/>
        </p:blipFill>
        <p:spPr>
          <a:xfrm>
            <a:off x="285840" y="857160"/>
            <a:ext cx="8429400" cy="50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5"/>
          <p:cNvPicPr/>
          <p:nvPr/>
        </p:nvPicPr>
        <p:blipFill>
          <a:blip r:embed="rId1"/>
          <a:stretch/>
        </p:blipFill>
        <p:spPr>
          <a:xfrm>
            <a:off x="762120" y="228600"/>
            <a:ext cx="7772400" cy="5580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1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72" name="AutoShape 12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73" name="Picture 14" descr=""/>
          <p:cNvPicPr/>
          <p:nvPr/>
        </p:nvPicPr>
        <p:blipFill>
          <a:blip r:embed="rId2"/>
          <a:stretch/>
        </p:blipFill>
        <p:spPr>
          <a:xfrm>
            <a:off x="8690040" y="333360"/>
            <a:ext cx="37476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11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fd52d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75" name="AutoShape 12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76" name="Картинка 2" descr=""/>
          <p:cNvPicPr/>
          <p:nvPr/>
        </p:nvPicPr>
        <p:blipFill>
          <a:blip r:embed="rId1"/>
          <a:stretch/>
        </p:blipFill>
        <p:spPr>
          <a:xfrm>
            <a:off x="351000" y="836640"/>
            <a:ext cx="8354880" cy="497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2"/>
          <a:stretch/>
        </p:blipFill>
        <p:spPr>
          <a:xfrm>
            <a:off x="8618400" y="189000"/>
            <a:ext cx="317520" cy="43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05:52:00Z</dcterms:created>
  <dc:creator>1</dc:creator>
  <dc:description/>
  <dc:language>en-US</dc:language>
  <cp:lastModifiedBy>ХАС</cp:lastModifiedBy>
  <dcterms:modified xsi:type="dcterms:W3CDTF">2012-10-18T04:49:05Z</dcterms:modified>
  <cp:revision>53</cp:revision>
  <dc:subject/>
  <dc:title>Этап  «Опознай программу»</dc:title>
</cp:coreProperties>
</file>