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6.jpeg" ContentType="image/jpeg"/>
  <Override PartName="/ppt/media/image42.png" ContentType="image/png"/>
  <Override PartName="/ppt/media/image25.png" ContentType="image/pn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2.jpeg" ContentType="image/jpeg"/>
  <Override PartName="/ppt/media/image36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1.png" ContentType="image/png"/>
  <Override PartName="/ppt/media/image30.jpeg" ContentType="image/jpeg"/>
  <Override PartName="/ppt/media/image31.png" ContentType="image/png"/>
  <Override PartName="/ppt/media/image4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38.jpeg" ContentType="image/jpeg"/>
  <Override PartName="/ppt/media/image46.png" ContentType="image/png"/>
  <Override PartName="/ppt/media/image13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49.png" ContentType="image/png"/>
  <Override PartName="/ppt/media/image51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1.jpeg" ContentType="image/jpeg"/>
  <Override PartName="/ppt/media/image47.png" ContentType="image/png"/>
  <Override PartName="/ppt/media/image12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659-12FF-424B-905F-9CA44856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F47-79D1-4A6B-8427-445D08F8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478-5095-48ED-BFD4-C6B71B45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748C-C2A7-4537-B2C6-B0ACE4F1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29BD-B727-477D-A358-A83B870D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907-B041-4CA1-93C7-E3BF6720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102A-F0A4-45EB-A9F8-6301845B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569-926F-414D-A14A-3611211B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434-60AC-464A-B988-6CA0764A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2FF-EA35-4D78-BF17-938D8A69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A8A-00F7-4367-9AC4-E3AA41C6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A04-891E-4BEC-AB1C-2CFA81AE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ff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ff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ff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ff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ff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ff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55B4-B430-4FBA-811D-8B9209D1C35A}" type="slidenum">
              <a:rPr b="0" lang="en-US" sz="1400" spc="-1" strike="noStrike">
                <a:solidFill>
                  <a:srgbClr val="66ff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371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Этап </a:t>
            </a:r>
            <a:br>
              <a:rPr sz="5400"/>
            </a:b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«Угадай программу»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84360" y="33336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578800" y="260280"/>
            <a:ext cx="37476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755640" y="404640"/>
            <a:ext cx="7772400" cy="560232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656560" y="476280"/>
            <a:ext cx="41904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001000" cy="548172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459640" y="333360"/>
            <a:ext cx="540000" cy="4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8532720" y="333360"/>
            <a:ext cx="468360" cy="41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7924680" cy="561996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388360" y="404640"/>
            <a:ext cx="519120" cy="4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87640" y="1052640"/>
            <a:ext cx="3387600" cy="464796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172360" y="404640"/>
            <a:ext cx="538200" cy="4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7619760" cy="563076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540000" cy="4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7315200" cy="556272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459640" y="476280"/>
            <a:ext cx="52884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8274240" cy="518004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8532720" y="189000"/>
            <a:ext cx="484200" cy="39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7972200" cy="579420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532720" y="333360"/>
            <a:ext cx="484200" cy="4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Правила выполнения задания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ff33"/>
              </a:buClr>
              <a:buSzPct val="200000"/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В данном задании вы должны просмотреть все слайды и узнать по внешнему виду окна программы название данного компьютерного приложения</a:t>
            </a:r>
            <a:endParaRPr b="0" lang="en-US" sz="36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27120" y="685800"/>
            <a:ext cx="3942000" cy="504180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101080" y="333360"/>
            <a:ext cx="522360" cy="40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49440" y="1365120"/>
            <a:ext cx="6222960" cy="401328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317080" y="333360"/>
            <a:ext cx="502920" cy="4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7819920" cy="579096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459640" y="333360"/>
            <a:ext cx="57636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425080" cy="514800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675640" y="260280"/>
            <a:ext cx="46836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54240" y="914400"/>
            <a:ext cx="6637320" cy="502920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317080" y="404640"/>
            <a:ext cx="53640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7294680" cy="508644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459640" y="189000"/>
            <a:ext cx="505080" cy="39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7431120" cy="501012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8459640" y="189000"/>
            <a:ext cx="53352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7764480" cy="5657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54000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imes New Roman"/>
              </a:rPr>
              <a:t>Окончание этапа.</a:t>
            </a:r>
            <a:br>
              <a:rPr sz="7200"/>
            </a:br>
            <a:r>
              <a:rPr b="0" lang="en-US" sz="7200" spc="-1" strike="noStrike">
                <a:solidFill>
                  <a:srgbClr val="ffcc00"/>
                </a:solidFill>
                <a:latin typeface="Times New Roman"/>
              </a:rPr>
              <a:t>Желаем успеха!</a:t>
            </a:r>
            <a:br>
              <a:rPr sz="7200"/>
            </a:b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7391520" cy="579132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604360" y="333360"/>
            <a:ext cx="31428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304920"/>
            <a:ext cx="7315200" cy="56386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516880" y="333360"/>
            <a:ext cx="40500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7239240" cy="587196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2916360" y="907920"/>
            <a:ext cx="71280" cy="7308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3080"/>
              <a:gd name="textAreaBottom" fmla="*/ 68760 h 73080"/>
            </a:gdLst>
            <a:ahLst/>
            <a:rect l="textAreaLeft" t="textAreaTop" r="textAreaRight" b="textAreaBottom"/>
            <a:pathLst>
              <a:path w="21600" h="22143">
                <a:moveTo>
                  <a:pt x="0" y="0"/>
                </a:moveTo>
                <a:lnTo>
                  <a:pt x="21600" y="0"/>
                </a:lnTo>
                <a:lnTo>
                  <a:pt x="21600" y="22143"/>
                </a:lnTo>
                <a:lnTo>
                  <a:pt x="0" y="22143"/>
                </a:lnTo>
                <a:close/>
              </a:path>
              <a:path fill="lightenLess" w="21600" h="221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43">
                <a:moveTo>
                  <a:pt x="21600" y="0"/>
                </a:moveTo>
                <a:lnTo>
                  <a:pt x="21600" y="22143"/>
                </a:lnTo>
                <a:lnTo>
                  <a:pt x="20200" y="20743"/>
                </a:lnTo>
                <a:lnTo>
                  <a:pt x="20200" y="1400"/>
                </a:lnTo>
                <a:close/>
              </a:path>
              <a:path fill="darkenLess" w="21600" h="22143">
                <a:moveTo>
                  <a:pt x="21600" y="22143"/>
                </a:moveTo>
                <a:lnTo>
                  <a:pt x="0" y="22143"/>
                </a:lnTo>
                <a:lnTo>
                  <a:pt x="1400" y="20743"/>
                </a:lnTo>
                <a:lnTo>
                  <a:pt x="20200" y="20743"/>
                </a:lnTo>
                <a:close/>
              </a:path>
              <a:path fill="lighten" w="21600" h="22143">
                <a:moveTo>
                  <a:pt x="0" y="221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43"/>
                </a:lnTo>
                <a:close/>
              </a:path>
              <a:path fill="darken" w="21600" h="22143">
                <a:moveTo>
                  <a:pt x="3794" y="4065"/>
                </a:moveTo>
                <a:lnTo>
                  <a:pt x="17806" y="11071"/>
                </a:lnTo>
                <a:lnTo>
                  <a:pt x="3794" y="1807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532720" y="333360"/>
            <a:ext cx="40032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7848360" cy="58258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634240" y="260280"/>
            <a:ext cx="40824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772400" cy="558000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658360" y="260280"/>
            <a:ext cx="37764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7924680" cy="556272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705880" y="260280"/>
            <a:ext cx="37476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7619760" cy="556272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gradFill rotWithShape="0">
            <a:gsLst>
              <a:gs pos="0">
                <a:srgbClr val="fed42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7740720" y="6093000"/>
            <a:ext cx="1403280" cy="765000"/>
          </a:xfrm>
          <a:custGeom>
            <a:avLst/>
            <a:gdLst>
              <a:gd name="textAreaLeft" fmla="*/ 49320 w 1403280"/>
              <a:gd name="textAreaRight" fmla="*/ 1353960 w 1403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9614" h="21600">
                <a:moveTo>
                  <a:pt x="0" y="0"/>
                </a:moveTo>
                <a:lnTo>
                  <a:pt x="39614" y="0"/>
                </a:lnTo>
                <a:lnTo>
                  <a:pt x="39614" y="21600"/>
                </a:lnTo>
                <a:lnTo>
                  <a:pt x="0" y="21600"/>
                </a:lnTo>
                <a:close/>
              </a:path>
              <a:path fill="lightenLess" w="39614" h="21600">
                <a:moveTo>
                  <a:pt x="0" y="0"/>
                </a:moveTo>
                <a:lnTo>
                  <a:pt x="39614" y="0"/>
                </a:lnTo>
                <a:lnTo>
                  <a:pt x="38214" y="1400"/>
                </a:lnTo>
                <a:lnTo>
                  <a:pt x="1400" y="1400"/>
                </a:lnTo>
                <a:close/>
              </a:path>
              <a:path fill="darken" w="39614" h="21600">
                <a:moveTo>
                  <a:pt x="39614" y="0"/>
                </a:moveTo>
                <a:lnTo>
                  <a:pt x="39614" y="21600"/>
                </a:lnTo>
                <a:lnTo>
                  <a:pt x="38214" y="20200"/>
                </a:lnTo>
                <a:lnTo>
                  <a:pt x="38214" y="1400"/>
                </a:lnTo>
                <a:close/>
              </a:path>
              <a:path fill="darkenLess" w="39614" h="21600">
                <a:moveTo>
                  <a:pt x="39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4" y="20200"/>
                </a:lnTo>
                <a:close/>
              </a:path>
              <a:path fill="lighten" w="39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4" h="21600">
                <a:moveTo>
                  <a:pt x="12800" y="3794"/>
                </a:moveTo>
                <a:lnTo>
                  <a:pt x="26813" y="10800"/>
                </a:lnTo>
                <a:lnTo>
                  <a:pt x="12800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459640" y="404640"/>
            <a:ext cx="317520" cy="43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05:52:00Z</dcterms:created>
  <dc:creator>1</dc:creator>
  <dc:description/>
  <dc:language>en-US</dc:language>
  <cp:lastModifiedBy>obuhova</cp:lastModifiedBy>
  <dcterms:modified xsi:type="dcterms:W3CDTF">2009-10-14T10:48:29Z</dcterms:modified>
  <cp:revision>36</cp:revision>
  <dc:subject/>
  <dc:title>Этап  «Опознай программу»</dc:title>
</cp:coreProperties>
</file>